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B2C3-72CF-4569-8D17-89BCFA409DB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996B-C60B-4120-977C-838D6CA79215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1F05C-46EF-476F-8F7E-EF37F64EE7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430C9-40B6-49B6-810B-75756D76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8192A-5AFE-41D4-87B8-F6228F50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0F74C-C6CD-476C-8BBB-91C009F9FC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9FDF9-14F3-4CCB-89F1-86538586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27231-E2EA-4EFE-A827-20C343B2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FBFF6-938B-46B0-9F56-993DA3E8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18243-98C0-4A6D-809D-62BF2E44A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2D6A1-57B4-4873-80DB-AF88B7B2E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955BD-3022-4A8E-AD80-470DF7D7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76619-963E-457D-86A7-C18ACF23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0690C-2EB3-41EC-9619-8B1149B3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F1B7-5F6D-4679-8AD5-99ECD20ED8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1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的基本指征与适应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期体重下降大于正常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 g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以上不能正常进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已明确为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产生营养不良或手术并发症的高危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剂：大分子聚合物、要素膳、特殊配方制剂、组件制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途径：鼻胃管、鼻肠管、经胃造瘘或空肠造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方式：间歇性输入法、持续性注入法、循环间歇性注入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机械并发症：包括造瘘管滑脱及堵塞、鼻咽部和食管黏膜损伤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制剂：葡萄糖、脂肪、氨基酸、维生素、电解质、微量元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途径：周围静脉输注、中心静脉输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方式：全营养混合液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otal nutrient admixtur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N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方式、单瓶输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技术性并发症、代谢并发症、导管性脓毒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明确诊断为食管癌，拟行手术治疗，术前因营养不良先予营养支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目前适宜的营养支持方法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什么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可能出现哪些并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③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误吸的危险 与患者咽反射消失、管道位置不好、一次喂入过多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 与胃管刺激、黏膜干燥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泻 与营养液的配方、浓度、温度、输注速度、置管位置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感染、高糖血症和低糖血症、水电解质失衡、高渗性非酮性昏迷、肝功能损害、空气栓塞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误吸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合适的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确管道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估计胃残留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营养液输入通路在位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阻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出现阻塞，可试用胰酶溶液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腹泻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营养液的温度应适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观察患者肠鸣音、排便的次数和性质，便频、便稀均是不耐受管喂饮食的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营养液污染、变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出肠内营养、肠外营养、完全胃肠外营养的定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临床常用的营养评估指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肠内与肠外营养支持的优缺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肠内与肠外营养支持常见并发症的发生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营养支持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口腔、鼻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造口周围皮肤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营养导管在位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置管过程中应严格遵守无菌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定期更换管道及静脉营养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液现用现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要在配好的静脉营养液中添加任何成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导管性脓毒症发生，应及时拔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空气栓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锁骨下静脉穿刺时，置患者于头低平卧位，屏气，使上腔静脉充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置管成功后及时、妥善连接输液管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疑有空气栓子，应嘱患者左侧卧位，取头低脚高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血糖水平稳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以适当的速度输入静脉营养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随时监测血糖水平，保持血糖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.67~8.89 mmol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尿糖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±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＋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怀疑低血糖时，可让患者口服或遵医嘱静脉推注葡萄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现高渗性非酮性昏迷时，应停输葡萄糖溶液或含有高糖的营养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情况：有无脱水、水肿，有无发热、黄疸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了解患者对营养支持的反应，如体重、血浆蛋白水平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并记录出入量，监测血糖水平、血清电解质水平、血气分析、肝肾功能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的基本原则：凡胃肠道功能正常或存在部分胃肠道功能者，在营养支持时应首选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状况评估：应综合病史、体格检查、实验室检查等诸多方面，不同的评价指标反映的营养问题可不相同，故应综合多方面因素进行判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的并发症：包括机械性、代谢性和胃肠道并发症。应加强腹泻及误吸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的并发症：包括技术性和代谢并发症以及导管性脓毒症。应加强空气栓塞、高渗性非酮性昏迷、导管性脓毒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nteral nutri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营养物质经胃肠道途径供给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renteral nutri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营养物质经静脉途径供给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所需的全部营养物质都经静脉供给称为完全胃肠外营养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otal parenteral nutri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P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560" y="1052640"/>
            <a:ext cx="8785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出现进食哽噎感，进食干硬食物难以下咽，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症状较前明显加重，进半流食也出现吞咽困难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来体重下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.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70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4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双下肢可见凹陷性水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b 10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白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转铁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3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前清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5 m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患者可能出现毛发脱落、指甲无光、皮肤干燥、肝大、心界缩小、肌力减弱、水肿或腹水等情况，应重点检查，并注意与其他疾病相鉴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人体测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质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ody mass inde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=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高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理想值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.5~23.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消瘦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超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人体测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头肌皮褶厚度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iceps skinfol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SF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臂肌围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rm muscle circumfere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转铁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前清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细胞总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了解患者疾病史、手术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还要注意患者的膳食习惯及近期进食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19:36Z</dcterms:modified>
  <cp:revision>97</cp:revision>
  <dc:subject/>
  <dc:title>内科护理学</dc:title>
</cp:coreProperties>
</file>